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39001"/>
        <c:axId val="20204378"/>
      </c:barChart>
      <c:catAx>
        <c:axId val="40439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4378"/>
        <c:crosses val="autoZero"/>
        <c:auto val="1"/>
        <c:lblAlgn val="ctr"/>
        <c:lblOffset val="100"/>
        <c:noMultiLvlLbl val="0"/>
      </c:catAx>
      <c:valAx>
        <c:axId val="20204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39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CE5-3A47-40A3-9248-9072EBF3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408-1D0A-4E62-8B9F-890F104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DB2-A559-44B4-BAF5-9C7492FF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789-AC22-4833-8D75-EF1A91B4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2E1-6330-4445-B2C6-E9BB1785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D7D-53DB-4389-97AB-76F45F9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413-1582-43F1-8A69-75B6B1F0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E96-D824-4237-9E5F-21C852DD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EE3-6B2C-4C6C-AFEC-A3A63027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A4A-4775-4398-BE72-3D260252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4DA-7D9E-44E8-9ABB-7D49E58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6B6-4EDC-42DC-9691-83E913E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6A0E8-1D63-4FFD-8206-6FFC1497A5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