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937799"/>
        <c:axId val="90472931"/>
      </c:barChart>
      <c:catAx>
        <c:axId val="209377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72931"/>
        <c:crosses val="autoZero"/>
        <c:auto val="1"/>
        <c:lblAlgn val="ctr"/>
        <c:lblOffset val="100"/>
        <c:noMultiLvlLbl val="0"/>
      </c:catAx>
      <c:valAx>
        <c:axId val="904729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377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821C-021B-41BC-9CA8-711C74705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AE04-752C-45A7-9A3F-EF9CE401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90E4-6057-4777-B698-689A8D42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F432-A87A-46F4-BDB0-1EE36463E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8AE9-C00A-4790-9815-F483FAFD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FDBA-A0F9-482C-90CA-68D5A4D8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14A9-F37A-4316-BD2A-3CFA2331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D07F-0969-48A7-B87F-44AA3566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B6F6-6AD7-4BBD-B410-512A195D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8307-CBCD-47F0-9441-3B6E97EF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E39D-FF29-41F9-9B2C-366286DE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2C2A-C147-4B7C-B8E9-951A1892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9F5D1-468A-4119-ADBB-814602544A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